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7D0-EB30-40E8-B423-21AFE624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CA9-ADD3-4C61-B70A-B46A98D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E73-5BD8-437B-8A87-CD9E029B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33D-22B3-40E4-8A27-64CF4467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310-0855-4D61-9D63-F823930A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5F2-A3FD-4B33-BFC1-C261F4E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8DB-03CF-4C1B-94A6-0EF80CE3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094-AA20-47C4-88EB-A908F2F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535-A71A-4B2E-86E6-05908795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1C8-D9EE-4B3D-8237-113261A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A50-6CC3-49E4-8B0B-4D90CBD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748-4740-461C-B0E1-A5D6204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608-9B7C-45F4-879E-40BB1AE4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1148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Shanelle Robles, Patrick Negrete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ailey William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19810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net Definition</a:t>
            </a:r>
            <a:endParaRPr b="0" lang="en-US" sz="2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What do we think is a pla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162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e planet mu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Have a moon or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Gravity of 0.25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Diameter of about 10,000 and ab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ss of 50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A rotational period of about a day or mor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al Eccentrici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0.5 or abo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685800"/>
          <a:ext cx="868680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6868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 txBox="1"/>
          <p:nvPr/>
        </p:nvSpPr>
        <p:spPr>
          <a:xfrm>
            <a:off x="2286000" y="2286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meter of a Plan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abfc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ber of Moo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666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2438280" y="3049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6600cc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523880" y="457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bital Eccentricity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bfc6"/>
            </a:gs>
            <a:gs pos="50000">
              <a:srgbClr val="ff3399"/>
            </a:gs>
            <a:gs pos="100000">
              <a:srgbClr val="3abf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0"/>
          <a:ext cx="891540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99072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ss Compared to Earth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00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362320"/>
          <a:ext cx="82296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1447920" y="53352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Rotational Peri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9240" cy="585108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a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ercu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p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atu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eptu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Dwarf 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lu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Ven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on-plan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7:16:29Z</dcterms:created>
  <dc:creator>mchamorro</dc:creator>
  <dc:description/>
  <dc:language>en-US</dc:language>
  <cp:lastModifiedBy>Phil</cp:lastModifiedBy>
  <dcterms:modified xsi:type="dcterms:W3CDTF">2011-02-17T04:54:14Z</dcterms:modified>
  <cp:revision>11</cp:revision>
  <dc:subject/>
  <dc:title>Slide 1</dc:title>
</cp:coreProperties>
</file>